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3EF35-310F-49AD-8BE6-CDFB63397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52C2D-B836-4A5F-A30E-F12C0BD3F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DCF8DD-720B-4CA8-85D7-6707A161DE4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CE8B8D6-7B2C-4044-B156-0A6DB7DE74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0372381-B5F4-4381-9F8C-1C73DA24DF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340590-32E0-42B7-9E61-ED0303B4D7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69E3B9-8AC9-46C7-8624-37C92CA8519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81D52E-D687-41B4-BBED-6A1EB9EE4F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5BE6AE-14A8-4C3F-8A68-7A84FA6220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701C2FE-B3D2-4BBD-BDE6-57EECF12DB0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1505131-4DE9-4753-9BA0-4208EAA6B81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76BAD7-822C-4B62-B744-25D94E6361E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492C0-8105-4405-82A6-07A0FB30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2FECD87-8B4F-4E17-AE53-BF01B79358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BEF8008-DA71-48BA-9B50-0BC1FC74BFB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818B79-A10A-47C3-87DF-1A15D8EA4C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8FC533E-331E-4240-B9CC-64A7B1A12E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4F863B6-91BC-42E1-A505-0825E896074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7A732F-346A-4DDC-B6F5-15A0EED5F6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2CC1D8-F901-4351-8C6C-D90833ED33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17FA9C6-5E53-4D70-A119-525F6B2135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69A5B5C-1502-4E67-B8F3-D0B11BD98A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2FBF795-0335-450C-8E43-10537660D2B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8B02D-97A4-40D2-B195-A137C44C6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3FB8FA6-8AC2-45A4-A7C1-8FD524EF7D9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307F648-59A0-4B0D-9DC9-B4B37F1C9FB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7722EAD-DDE1-4741-B062-5A45A30B4E7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B86A865-4B85-446F-8BEF-67C9DED1B70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FDF9457-9A94-41BB-8596-185A3F7F55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45B77E9-3199-48F6-A7FB-AA5A1C1E61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3EFE2D-B04A-4E5D-9AFD-F50453F4B49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817C9BB-C279-44D0-8D5A-BE505D46B0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717399-5EA5-4164-AFCD-3611126578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39C5EF-9672-41DF-B1CA-CC2C68C673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8F03D-F738-4F0B-9E3D-127C22280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C4C5E34-3859-4EFF-BEA1-D93D59C2CDB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E06C84F-B342-4055-ABB5-DD81E096648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31F6F0D-345B-4306-93DD-F4B7FE01130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271B96C-E732-4358-99C6-D99143A2673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70AA95A-416D-4AA0-8F93-BD876FFC33B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B5AE82B-4700-4016-9A45-5550E2229AC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C635017-D407-4FE5-83D0-8BC5CDB3B4F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E13330C-6D8E-4FB3-865E-566D1E71CC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391A8C1-F865-4F97-B4E8-D878061AF4E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09846E8-FE22-4CA4-ADF1-DA95EB7FBE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65208-283F-4FDF-9C63-525FE402C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5C8E47-CD29-4985-9937-7E16FFDE350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1B5ACEE-CAFC-4A94-9D4F-E85661F08E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A8EC3A-165F-4985-B903-CF706DB1EA9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D24A18A-B079-4979-8FF5-F4284CFA4F0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6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1A0377A-BA65-4335-8C5C-4C47062F637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54F5073-6C43-476C-A6AC-817564E408F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F875979-9131-459E-B445-423368BA0D3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B22BB8E-9EF5-4327-9EE3-71F00E0165E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4EE6D48-B029-4D58-8895-389A3C1DCCE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02B2BC9-D528-470D-B3BB-71AEAEB0C86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D89D4-ED90-4280-9906-AC134303C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D6B81AB-AC2E-4FB3-AB97-4F2E8FC11DF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F3BDD26-7018-4C0A-99B9-51704972C06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FE2D06E-691E-4807-9CFD-647B1FC657E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CEC51E7-536E-414D-8492-21A1B0B12E4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AADD279-9249-4736-B7AC-641CA7B6C28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B2A36DD-11EA-494F-8DE8-B182C4A7639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0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2F68891-D542-4505-9966-B3B63181899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EE26FD4-19DF-4064-B24F-3AC441CE1915}"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1"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C3EF58B-879D-404D-9D82-36CBD767335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3"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3B305C1-0930-4632-86B1-C44985EFBF2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B5E47-AA02-49C2-B3D7-AFB15DAA8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CC1F86B-BE7F-45F8-8318-BF2AFDFF7B0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758AD2C-C2C7-43DC-AC91-EEF30C720F6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41F3AF5-8B31-4AFB-89BD-EE130C1601D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D8AE88B-F807-4030-9FED-57450C97198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6"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0B752FC-961B-4FC4-BB1D-D55CB2ACC1F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0"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0E35A6E-4268-4012-A60A-7D11EA17217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2"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3"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8501C1E-2868-40BF-BB9B-870ACBE37A3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8"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15D7A83-2C26-48A4-B15B-5777D94E1593}"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0"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1"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2"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3"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4"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5"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A2DF2C1-4994-42C2-9F62-4A80B818CB6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19B1AD4F-6CA8-44DB-B68D-A0773F6EEAB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98D1B-38FF-4E3D-9DA3-A72860734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6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BC0EFC5-C753-4D77-8C9C-23E9F644201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FD7E19E-91E9-467C-BE93-B92267849F2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8723B9B-FAB3-47D6-BD7D-FCF85094E07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B0D285D-4ABE-499F-97AB-EB205EACC24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7F06934-CE9F-4E2C-97CD-E9AE558A30C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9FF1C7A-EE25-4C22-9467-BE99B5C4898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19A7B29-7B27-426B-B449-E992DFCDFC1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3FB8332-F543-4DBF-B707-A009126B10C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CA75E61-DDCA-4D7A-85BE-E4BEA7602C2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0CC4526E-9A64-4FC7-A694-05B755EABAE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C83C3-DA08-427E-A3D1-F59DF00E1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A2CC3C4B-64F6-40A9-92E9-0ECBEFC7D8A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9C46B-D54C-445D-99CA-E59814988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3642A-A9E3-4277-98CE-D74E43AF6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F5727-1237-4E1D-8E99-E9258BB4A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4BCD0-E688-4977-902B-4BDC1F218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3"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4"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EDFFB-55BF-4805-A512-DCF81DD1F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9"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54B67-7071-4494-96BA-D6DD79A1E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1"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2"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3"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4"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5"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6"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6FB62-F63E-4902-A433-2E89562B3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D159A7-5BE6-4D3C-B2A8-0631200C4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9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68CD9-D013-419A-A1A7-963BECAB5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F756A-BB50-4191-95E3-4921AC57E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EDD4C-77CC-42A6-9502-CDB50C179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ADC56-5413-4EA9-8A02-54DC25461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9A9DB-D409-41F0-93C2-3B81CD58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20864-FABB-404A-A320-EA1A91576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95E8F-E776-4237-BDE4-1C8B4FC8E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9C44B-0E75-4D4B-87B4-45AB32373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07245-D02D-45C5-A72B-DC2745512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AD928-1919-4B31-B2B7-5BD6BC05D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5C6AB-A2B9-48BB-B269-93F0D1E3D1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2E4D64-A6F1-486A-9A1D-F5E7C1172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5"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7"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F960-7F53-4027-BFCC-BBC61246C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0"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4"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6"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7"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2"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74"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5"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6"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7"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8"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9"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B91B227-3186-4C1B-8EDD-43BE6967717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0A62B-BBEF-4C25-9B71-67F0B6A38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1"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5CC395-EE6E-4912-9405-DB9C119C85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3"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3AFE82-A187-425E-92BE-1E18D6C88DD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9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0891DC-F06F-4D9C-B01C-3ECD71D76FB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00FC27-0AA6-4124-9B83-6D8ECDDB2B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7EB0BDE-AB06-4D30-A729-67550704EF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C05113-8608-4612-9351-773FFD13F7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6"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8D19B5-57E8-4387-8248-26A1D5C3E1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0"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1D26A7-691C-425A-B5EB-35826C1074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2"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3"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1BA2B2-6183-42F6-A626-5DF22637AB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8"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8CF4298-E783-4A8B-BBB1-2CBA0915285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FDF5-2776-41F9-BD6E-E1E074CEB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20"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1"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2"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3"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4"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5"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95118CA-D1CC-4023-ABCC-E01F787A84C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9732DB0-F99A-4A26-B46C-A5B3B4352FF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EF0F0E-B57F-45CA-A54F-0003AF90B3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6A483FC-9DC4-4A64-87F0-AD13C0CFEC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CF78E2-65A8-4510-B5A3-5DB9ACA9AF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80819F9-371E-49C6-B685-FDFC052EF0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1B1566-0B1F-4D98-8461-3E4594D477B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458CE5-A511-4ECE-BA23-6E74525C70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402865-6743-4C71-AA61-0B28E1475D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7C39E4-4D36-4E20-BA88-953180901C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6711-CAE2-4DD5-A39D-917E8047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50C4E3-E5CB-484D-90AB-86168E5CC0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4DBED6-747C-4AD0-A003-14BE5FACC59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AD00B71-D1D2-4A22-8B16-6AFBC84197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73EE43-689D-4CCB-8B50-535CB8A4D8B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92F3929-FC05-430A-BDE2-1CD682762C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3489AF-7518-45FB-8F6E-3A2329889D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52B47DE-5B4B-4E98-A81F-0EB8A38CAC7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D4D12B-FA58-4C28-BC08-8DBE17C9F5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0ECF65B-162F-4215-99FA-8A48BB7988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168896-3DD2-4BFE-B61A-778DE4DD90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CB99-75D9-4C1D-8935-C042C63B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6B20BD-D034-463E-893A-9AE51AA27A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1D2366-B729-4BE9-A55E-56221A8DEF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6A5AC8-F8D4-4986-9AA3-B4103A3F6B4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C5EE09-A2A9-4813-A079-DD7EC18EDE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E384D6-D2D3-443C-8B0A-9AEA3EB5F4D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8DA029-7BF6-4488-8E08-53E36244351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D6FCF8-EE84-49E2-8013-749B53C299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FCBDBB-E20F-44D3-B4A4-8BA414F415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4EC335-9C36-4CD7-B045-5E2EBF8B5A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354BE4F-CDDC-479C-AD5A-9DDE3C87F9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03BA-40C7-43D2-9D3F-9DAC3968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8066373-CA19-4368-81AB-F279882F56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C5AC84-0E63-4A5E-A974-92721574E6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56C9EF-689C-4931-8F85-33F37DBA6F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074F2C-8C24-43B2-B7DA-AC5D1AD80FE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BB922F-1ECE-4BA0-AACF-3E87C4D2DB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048358D-D292-4FE9-BCA9-4C6B1CC42B7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6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6FC2D4D-52A4-4174-B11C-4EC8B0087E4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EAF9CDB-01F4-424F-865F-76748023677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4A697A6-746D-4A90-816E-CDC8172FFF8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AD43207-B2ED-4FFB-A1C9-44D49C2C8D9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 name="PlaceHolder 3"/>
          <p:cNvSpPr>
            <a:spLocks noGrp="1"/>
          </p:cNvSpPr>
          <p:nvPr>
            <p:ph type="dt" idx="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 name="PlaceHolder 5"/>
          <p:cNvSpPr>
            <a:spLocks noGrp="1"/>
          </p:cNvSpPr>
          <p:nvPr>
            <p:ph type="sldNum" idx="3"/>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BF09-BCB0-4524-9F06-702F07F4472F}"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5" name="Group 6"/>
          <p:cNvGrpSpPr/>
          <p:nvPr/>
        </p:nvGrpSpPr>
        <p:grpSpPr>
          <a:xfrm>
            <a:off x="182520" y="173160"/>
            <a:ext cx="8778960" cy="6511680"/>
            <a:chOff x="182520" y="173160"/>
            <a:chExt cx="8778960" cy="6511680"/>
          </a:xfrm>
        </p:grpSpPr>
        <p:grpSp>
          <p:nvGrpSpPr>
            <p:cNvPr id="416" name="Group 7"/>
            <p:cNvGrpSpPr/>
            <p:nvPr/>
          </p:nvGrpSpPr>
          <p:grpSpPr>
            <a:xfrm>
              <a:off x="182520" y="173160"/>
              <a:ext cx="8778960" cy="6511680"/>
              <a:chOff x="182520" y="173160"/>
              <a:chExt cx="8778960" cy="6511680"/>
            </a:xfrm>
          </p:grpSpPr>
          <p:pic>
            <p:nvPicPr>
              <p:cNvPr id="417" name="Rectangle 9" descr=""/>
              <p:cNvPicPr/>
              <p:nvPr/>
            </p:nvPicPr>
            <p:blipFill>
              <a:blip r:embed="rId3"/>
              <a:stretch/>
            </p:blipFill>
            <p:spPr>
              <a:xfrm>
                <a:off x="182520" y="173160"/>
                <a:ext cx="8778960" cy="6511680"/>
              </a:xfrm>
              <a:prstGeom prst="rect">
                <a:avLst/>
              </a:prstGeom>
              <a:ln w="0">
                <a:noFill/>
              </a:ln>
            </p:spPr>
          </p:pic>
          <p:grpSp>
            <p:nvGrpSpPr>
              <p:cNvPr id="418" name="Group 10"/>
              <p:cNvGrpSpPr/>
              <p:nvPr/>
            </p:nvGrpSpPr>
            <p:grpSpPr>
              <a:xfrm>
                <a:off x="372240" y="343800"/>
                <a:ext cx="8390520" cy="6152400"/>
                <a:chOff x="372240" y="343800"/>
                <a:chExt cx="8390520" cy="6152400"/>
              </a:xfrm>
            </p:grpSpPr>
            <p:sp>
              <p:nvSpPr>
                <p:cNvPr id="419"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20"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421" name="Rectangle 8"/>
            <p:cNvSpPr/>
            <p:nvPr/>
          </p:nvSpPr>
          <p:spPr>
            <a:xfrm rot="5400000">
              <a:off x="7995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2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24" name="PlaceHolder 3"/>
          <p:cNvSpPr>
            <a:spLocks noGrp="1"/>
          </p:cNvSpPr>
          <p:nvPr>
            <p:ph type="dt" idx="2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425" name="PlaceHolder 4"/>
          <p:cNvSpPr>
            <a:spLocks noGrp="1"/>
          </p:cNvSpPr>
          <p:nvPr>
            <p:ph type="ftr" idx="28"/>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26" name="PlaceHolder 5"/>
          <p:cNvSpPr>
            <a:spLocks noGrp="1"/>
          </p:cNvSpPr>
          <p:nvPr>
            <p:ph type="sldNum" idx="29"/>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1C8E-6BA1-4DFB-B61D-C03676E34D3E}"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3" name="Group 6"/>
          <p:cNvGrpSpPr/>
          <p:nvPr/>
        </p:nvGrpSpPr>
        <p:grpSpPr>
          <a:xfrm>
            <a:off x="182520" y="173160"/>
            <a:ext cx="8778960" cy="6511680"/>
            <a:chOff x="182520" y="173160"/>
            <a:chExt cx="8778960" cy="6511680"/>
          </a:xfrm>
        </p:grpSpPr>
        <p:grpSp>
          <p:nvGrpSpPr>
            <p:cNvPr id="464" name="Group 7"/>
            <p:cNvGrpSpPr/>
            <p:nvPr/>
          </p:nvGrpSpPr>
          <p:grpSpPr>
            <a:xfrm>
              <a:off x="182520" y="173160"/>
              <a:ext cx="8778960" cy="6511680"/>
              <a:chOff x="182520" y="173160"/>
              <a:chExt cx="8778960" cy="6511680"/>
            </a:xfrm>
          </p:grpSpPr>
          <p:grpSp>
            <p:nvGrpSpPr>
              <p:cNvPr id="465" name="Group 9"/>
              <p:cNvGrpSpPr/>
              <p:nvPr/>
            </p:nvGrpSpPr>
            <p:grpSpPr>
              <a:xfrm>
                <a:off x="182520" y="173160"/>
                <a:ext cx="8778960" cy="6511680"/>
                <a:chOff x="182520" y="173160"/>
                <a:chExt cx="8778960" cy="6511680"/>
              </a:xfrm>
            </p:grpSpPr>
            <p:pic>
              <p:nvPicPr>
                <p:cNvPr id="466" name="Rectangle 11" descr=""/>
                <p:cNvPicPr/>
                <p:nvPr/>
              </p:nvPicPr>
              <p:blipFill>
                <a:blip r:embed="rId3"/>
                <a:stretch/>
              </p:blipFill>
              <p:spPr>
                <a:xfrm>
                  <a:off x="182520" y="173160"/>
                  <a:ext cx="8778960" cy="6511680"/>
                </a:xfrm>
                <a:prstGeom prst="rect">
                  <a:avLst/>
                </a:prstGeom>
                <a:ln w="0">
                  <a:noFill/>
                </a:ln>
              </p:spPr>
            </p:pic>
            <p:grpSp>
              <p:nvGrpSpPr>
                <p:cNvPr id="467" name="Group 10"/>
                <p:cNvGrpSpPr/>
                <p:nvPr/>
              </p:nvGrpSpPr>
              <p:grpSpPr>
                <a:xfrm>
                  <a:off x="372240" y="343800"/>
                  <a:ext cx="8390520" cy="6152400"/>
                  <a:chOff x="372240" y="343800"/>
                  <a:chExt cx="8390520" cy="6152400"/>
                </a:xfrm>
              </p:grpSpPr>
              <p:sp>
                <p:nvSpPr>
                  <p:cNvPr id="468" name="Rectangle 13"/>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69" name="Straight Connector 14"/>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470" name="Rectangle 10"/>
              <p:cNvSpPr/>
              <p:nvPr/>
            </p:nvSpPr>
            <p:spPr>
              <a:xfrm rot="5400000">
                <a:off x="7995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71" name="Rectangle 8"/>
            <p:cNvSpPr/>
            <p:nvPr/>
          </p:nvSpPr>
          <p:spPr>
            <a:xfrm rot="10800000">
              <a:off x="258120" y="1593360"/>
              <a:ext cx="35755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74" name="PlaceHolder 3"/>
          <p:cNvSpPr>
            <a:spLocks noGrp="1"/>
          </p:cNvSpPr>
          <p:nvPr>
            <p:ph type="dt" idx="30"/>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475" name="PlaceHolder 4"/>
          <p:cNvSpPr>
            <a:spLocks noGrp="1"/>
          </p:cNvSpPr>
          <p:nvPr>
            <p:ph type="ftr" idx="31"/>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76" name="PlaceHolder 5"/>
          <p:cNvSpPr>
            <a:spLocks noGrp="1"/>
          </p:cNvSpPr>
          <p:nvPr>
            <p:ph type="sldNum" idx="32"/>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B697-991E-4155-B0CB-1DCA22D1D69C}"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3" name="Group 6"/>
          <p:cNvGrpSpPr/>
          <p:nvPr/>
        </p:nvGrpSpPr>
        <p:grpSpPr>
          <a:xfrm>
            <a:off x="182520" y="173160"/>
            <a:ext cx="8778960" cy="6511680"/>
            <a:chOff x="182520" y="173160"/>
            <a:chExt cx="8778960" cy="6511680"/>
          </a:xfrm>
        </p:grpSpPr>
        <p:grpSp>
          <p:nvGrpSpPr>
            <p:cNvPr id="514" name="Group 7"/>
            <p:cNvGrpSpPr/>
            <p:nvPr/>
          </p:nvGrpSpPr>
          <p:grpSpPr>
            <a:xfrm>
              <a:off x="182520" y="173160"/>
              <a:ext cx="8778960" cy="6511680"/>
              <a:chOff x="182520" y="173160"/>
              <a:chExt cx="8778960" cy="6511680"/>
            </a:xfrm>
          </p:grpSpPr>
          <p:pic>
            <p:nvPicPr>
              <p:cNvPr id="515" name="Rectangle 9" descr=""/>
              <p:cNvPicPr/>
              <p:nvPr/>
            </p:nvPicPr>
            <p:blipFill>
              <a:blip r:embed="rId3"/>
              <a:stretch/>
            </p:blipFill>
            <p:spPr>
              <a:xfrm>
                <a:off x="182520" y="173160"/>
                <a:ext cx="8778960" cy="6511680"/>
              </a:xfrm>
              <a:prstGeom prst="rect">
                <a:avLst/>
              </a:prstGeom>
              <a:ln w="0">
                <a:noFill/>
              </a:ln>
            </p:spPr>
          </p:pic>
          <p:grpSp>
            <p:nvGrpSpPr>
              <p:cNvPr id="516" name="Group 10"/>
              <p:cNvGrpSpPr/>
              <p:nvPr/>
            </p:nvGrpSpPr>
            <p:grpSpPr>
              <a:xfrm>
                <a:off x="372240" y="343800"/>
                <a:ext cx="8390520" cy="6152400"/>
                <a:chOff x="372240" y="343800"/>
                <a:chExt cx="8390520" cy="6152400"/>
              </a:xfrm>
            </p:grpSpPr>
            <p:sp>
              <p:nvSpPr>
                <p:cNvPr id="517"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18"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519" name="Rectangle 8"/>
            <p:cNvSpPr/>
            <p:nvPr/>
          </p:nvSpPr>
          <p:spPr>
            <a:xfrm rot="5400000">
              <a:off x="7995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52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2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22" name="PlaceHolder 3"/>
          <p:cNvSpPr>
            <a:spLocks noGrp="1"/>
          </p:cNvSpPr>
          <p:nvPr>
            <p:ph type="dt" idx="33"/>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3" name="PlaceHolder 4"/>
          <p:cNvSpPr>
            <a:spLocks noGrp="1"/>
          </p:cNvSpPr>
          <p:nvPr>
            <p:ph type="ftr" idx="34"/>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24" name="PlaceHolder 5"/>
          <p:cNvSpPr>
            <a:spLocks noGrp="1"/>
          </p:cNvSpPr>
          <p:nvPr>
            <p:ph type="sldNum" idx="35"/>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6E23-1C2F-4AE2-9AF7-99C84E87BA7C}"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1" name="Group 6"/>
          <p:cNvGrpSpPr/>
          <p:nvPr/>
        </p:nvGrpSpPr>
        <p:grpSpPr>
          <a:xfrm>
            <a:off x="182520" y="173160"/>
            <a:ext cx="8778960" cy="6511680"/>
            <a:chOff x="182520" y="173160"/>
            <a:chExt cx="8778960" cy="6511680"/>
          </a:xfrm>
        </p:grpSpPr>
        <p:grpSp>
          <p:nvGrpSpPr>
            <p:cNvPr id="562" name="Group 7"/>
            <p:cNvGrpSpPr/>
            <p:nvPr/>
          </p:nvGrpSpPr>
          <p:grpSpPr>
            <a:xfrm>
              <a:off x="182520" y="173160"/>
              <a:ext cx="8778960" cy="6511680"/>
              <a:chOff x="182520" y="173160"/>
              <a:chExt cx="8778960" cy="6511680"/>
            </a:xfrm>
          </p:grpSpPr>
          <p:pic>
            <p:nvPicPr>
              <p:cNvPr id="563" name="Rectangle 9" descr=""/>
              <p:cNvPicPr/>
              <p:nvPr/>
            </p:nvPicPr>
            <p:blipFill>
              <a:blip r:embed="rId3"/>
              <a:stretch/>
            </p:blipFill>
            <p:spPr>
              <a:xfrm>
                <a:off x="182520" y="173160"/>
                <a:ext cx="8778960" cy="6511680"/>
              </a:xfrm>
              <a:prstGeom prst="rect">
                <a:avLst/>
              </a:prstGeom>
              <a:ln w="0">
                <a:noFill/>
              </a:ln>
            </p:spPr>
          </p:pic>
          <p:grpSp>
            <p:nvGrpSpPr>
              <p:cNvPr id="564" name="Group 10"/>
              <p:cNvGrpSpPr/>
              <p:nvPr/>
            </p:nvGrpSpPr>
            <p:grpSpPr>
              <a:xfrm>
                <a:off x="372240" y="343800"/>
                <a:ext cx="8390520" cy="6152400"/>
                <a:chOff x="372240" y="343800"/>
                <a:chExt cx="8390520" cy="6152400"/>
              </a:xfrm>
            </p:grpSpPr>
            <p:sp>
              <p:nvSpPr>
                <p:cNvPr id="565"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66"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567" name="Rectangle 8"/>
            <p:cNvSpPr/>
            <p:nvPr/>
          </p:nvSpPr>
          <p:spPr>
            <a:xfrm>
              <a:off x="255600" y="4203360"/>
              <a:ext cx="862380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5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69"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70" name="PlaceHolder 3"/>
          <p:cNvSpPr>
            <a:spLocks noGrp="1"/>
          </p:cNvSpPr>
          <p:nvPr>
            <p:ph type="dt" idx="36"/>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71" name="PlaceHolder 4"/>
          <p:cNvSpPr>
            <a:spLocks noGrp="1"/>
          </p:cNvSpPr>
          <p:nvPr>
            <p:ph type="ftr" idx="37"/>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2" name="PlaceHolder 5"/>
          <p:cNvSpPr>
            <a:spLocks noGrp="1"/>
          </p:cNvSpPr>
          <p:nvPr>
            <p:ph type="sldNum" idx="38"/>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23B9-E204-4C04-ABA7-1151EAF1C7A6}"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9" name="Group 6"/>
          <p:cNvGrpSpPr/>
          <p:nvPr/>
        </p:nvGrpSpPr>
        <p:grpSpPr>
          <a:xfrm>
            <a:off x="182520" y="173160"/>
            <a:ext cx="8778960" cy="6511680"/>
            <a:chOff x="182520" y="173160"/>
            <a:chExt cx="8778960" cy="6511680"/>
          </a:xfrm>
        </p:grpSpPr>
        <p:pic>
          <p:nvPicPr>
            <p:cNvPr id="610" name="Rectangle 7" descr=""/>
            <p:cNvPicPr/>
            <p:nvPr/>
          </p:nvPicPr>
          <p:blipFill>
            <a:blip r:embed="rId3"/>
            <a:stretch/>
          </p:blipFill>
          <p:spPr>
            <a:xfrm>
              <a:off x="182520" y="173160"/>
              <a:ext cx="8778960" cy="6511680"/>
            </a:xfrm>
            <a:prstGeom prst="rect">
              <a:avLst/>
            </a:prstGeom>
            <a:ln w="0">
              <a:noFill/>
            </a:ln>
          </p:spPr>
        </p:pic>
        <p:grpSp>
          <p:nvGrpSpPr>
            <p:cNvPr id="611" name="Group 10"/>
            <p:cNvGrpSpPr/>
            <p:nvPr/>
          </p:nvGrpSpPr>
          <p:grpSpPr>
            <a:xfrm>
              <a:off x="372240" y="343800"/>
              <a:ext cx="8390520" cy="6152400"/>
              <a:chOff x="372240" y="343800"/>
              <a:chExt cx="8390520" cy="6152400"/>
            </a:xfrm>
          </p:grpSpPr>
          <p:sp>
            <p:nvSpPr>
              <p:cNvPr id="612"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3"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614"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6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16"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17" name="PlaceHolder 3"/>
          <p:cNvSpPr>
            <a:spLocks noGrp="1"/>
          </p:cNvSpPr>
          <p:nvPr>
            <p:ph type="dt" idx="39"/>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618" name="PlaceHolder 4"/>
          <p:cNvSpPr>
            <a:spLocks noGrp="1"/>
          </p:cNvSpPr>
          <p:nvPr>
            <p:ph type="ftr" idx="40"/>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9" name="PlaceHolder 5"/>
          <p:cNvSpPr>
            <a:spLocks noGrp="1"/>
          </p:cNvSpPr>
          <p:nvPr>
            <p:ph type="sldNum" idx="41"/>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CB66-4740-4B1E-8ADA-24B16A275548}"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6" name="Group 6"/>
          <p:cNvGrpSpPr/>
          <p:nvPr/>
        </p:nvGrpSpPr>
        <p:grpSpPr>
          <a:xfrm>
            <a:off x="182520" y="173160"/>
            <a:ext cx="8778960" cy="6511680"/>
            <a:chOff x="182520" y="173160"/>
            <a:chExt cx="8778960" cy="6511680"/>
          </a:xfrm>
        </p:grpSpPr>
        <p:grpSp>
          <p:nvGrpSpPr>
            <p:cNvPr id="657" name="Group 7"/>
            <p:cNvGrpSpPr/>
            <p:nvPr/>
          </p:nvGrpSpPr>
          <p:grpSpPr>
            <a:xfrm>
              <a:off x="182520" y="173160"/>
              <a:ext cx="8778960" cy="6511680"/>
              <a:chOff x="182520" y="173160"/>
              <a:chExt cx="8778960" cy="6511680"/>
            </a:xfrm>
          </p:grpSpPr>
          <p:pic>
            <p:nvPicPr>
              <p:cNvPr id="658" name="Rectangle 9" descr=""/>
              <p:cNvPicPr/>
              <p:nvPr/>
            </p:nvPicPr>
            <p:blipFill>
              <a:blip r:embed="rId3"/>
              <a:stretch/>
            </p:blipFill>
            <p:spPr>
              <a:xfrm>
                <a:off x="182520" y="173160"/>
                <a:ext cx="8778960" cy="6511680"/>
              </a:xfrm>
              <a:prstGeom prst="rect">
                <a:avLst/>
              </a:prstGeom>
              <a:ln w="0">
                <a:noFill/>
              </a:ln>
            </p:spPr>
          </p:pic>
          <p:grpSp>
            <p:nvGrpSpPr>
              <p:cNvPr id="659" name="Group 10"/>
              <p:cNvGrpSpPr/>
              <p:nvPr/>
            </p:nvGrpSpPr>
            <p:grpSpPr>
              <a:xfrm>
                <a:off x="372240" y="343800"/>
                <a:ext cx="8390520" cy="6152400"/>
                <a:chOff x="372240" y="343800"/>
                <a:chExt cx="8390520" cy="6152400"/>
              </a:xfrm>
            </p:grpSpPr>
            <p:sp>
              <p:nvSpPr>
                <p:cNvPr id="660"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61"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662" name="Rectangle 8"/>
            <p:cNvSpPr/>
            <p:nvPr/>
          </p:nvSpPr>
          <p:spPr>
            <a:xfrm rot="5400000">
              <a:off x="4241160" y="3274200"/>
              <a:ext cx="6136920" cy="63720"/>
            </a:xfrm>
            <a:prstGeom prst="rect">
              <a:avLst/>
            </a:prstGeom>
            <a:solidFill>
              <a:srgbClr val="cbd2d5"/>
            </a:solidFill>
            <a:ln w="3240">
              <a:solidFill>
                <a:srgbClr val="c7c6bc"/>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66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6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65" name="PlaceHolder 3"/>
          <p:cNvSpPr>
            <a:spLocks noGrp="1"/>
          </p:cNvSpPr>
          <p:nvPr>
            <p:ph type="dt" idx="4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666" name="PlaceHolder 4"/>
          <p:cNvSpPr>
            <a:spLocks noGrp="1"/>
          </p:cNvSpPr>
          <p:nvPr>
            <p:ph type="ftr" idx="43"/>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67" name="PlaceHolder 5"/>
          <p:cNvSpPr>
            <a:spLocks noGrp="1"/>
          </p:cNvSpPr>
          <p:nvPr>
            <p:ph type="sldNum" idx="44"/>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660D-C64A-48D0-A1DD-D9946E11BE9A}"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487440" y="411120"/>
            <a:ext cx="8169120" cy="6035760"/>
            <a:chOff x="487440" y="411120"/>
            <a:chExt cx="8169120" cy="6035760"/>
          </a:xfrm>
        </p:grpSpPr>
        <p:pic>
          <p:nvPicPr>
            <p:cNvPr id="42" name="Rectangle 7" descr=""/>
            <p:cNvPicPr/>
            <p:nvPr/>
          </p:nvPicPr>
          <p:blipFill>
            <a:blip r:embed="rId3"/>
            <a:stretch/>
          </p:blipFill>
          <p:spPr>
            <a:xfrm>
              <a:off x="487440" y="411120"/>
              <a:ext cx="8169120" cy="6035760"/>
            </a:xfrm>
            <a:prstGeom prst="rect">
              <a:avLst/>
            </a:prstGeom>
            <a:ln w="0">
              <a:noFill/>
            </a:ln>
          </p:spPr>
        </p:pic>
        <p:sp>
          <p:nvSpPr>
            <p:cNvPr id="43" name="Rectangle 8"/>
            <p:cNvSpPr/>
            <p:nvPr/>
          </p:nvSpPr>
          <p:spPr>
            <a:xfrm>
              <a:off x="678600" y="576000"/>
              <a:ext cx="7751880" cy="568836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4" name="Straight Connector 9"/>
            <p:cNvSpPr/>
            <p:nvPr/>
          </p:nvSpPr>
          <p:spPr>
            <a:xfrm>
              <a:off x="678600" y="6041880"/>
              <a:ext cx="7751880" cy="1080"/>
            </a:xfrm>
            <a:prstGeom prst="line">
              <a:avLst/>
            </a:prstGeom>
            <a:ln w="12600">
              <a:solidFill>
                <a:srgbClr val="c7c6b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sto MT"/>
              </a:endParaRPr>
            </a:p>
          </p:txBody>
        </p:sp>
        <p:sp>
          <p:nvSpPr>
            <p:cNvPr id="45" name="Rectangle 10"/>
            <p:cNvSpPr/>
            <p:nvPr/>
          </p:nvSpPr>
          <p:spPr>
            <a:xfrm>
              <a:off x="678600" y="558000"/>
              <a:ext cx="7751880" cy="2490840"/>
            </a:xfrm>
            <a:prstGeom prst="rect">
              <a:avLst/>
            </a:prstGeom>
            <a:solidFill>
              <a:srgbClr val="cbd2d5"/>
            </a:solidFill>
            <a:ln w="324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sp>
        <p:nvSpPr>
          <p:cNvPr id="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8" name="PlaceHolder 3"/>
          <p:cNvSpPr>
            <a:spLocks noGrp="1"/>
          </p:cNvSpPr>
          <p:nvPr>
            <p:ph type="dt" idx="4"/>
          </p:nvPr>
        </p:nvSpPr>
        <p:spPr>
          <a:xfrm>
            <a:off x="57276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5638680" y="6122520"/>
            <a:ext cx="2895840" cy="2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0" name="PlaceHolder 5"/>
          <p:cNvSpPr>
            <a:spLocks noGrp="1"/>
          </p:cNvSpPr>
          <p:nvPr>
            <p:ph type="sldNum" idx="6"/>
          </p:nvPr>
        </p:nvSpPr>
        <p:spPr>
          <a:xfrm>
            <a:off x="4191120" y="612288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6CED-3769-4170-805E-7DF82CAEA0FF}"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6"/>
          <p:cNvGrpSpPr/>
          <p:nvPr/>
        </p:nvGrpSpPr>
        <p:grpSpPr>
          <a:xfrm>
            <a:off x="182520" y="173160"/>
            <a:ext cx="8778960" cy="6511680"/>
            <a:chOff x="182520" y="173160"/>
            <a:chExt cx="8778960" cy="6511680"/>
          </a:xfrm>
        </p:grpSpPr>
        <p:pic>
          <p:nvPicPr>
            <p:cNvPr id="88" name="Rectangle 7" descr=""/>
            <p:cNvPicPr/>
            <p:nvPr/>
          </p:nvPicPr>
          <p:blipFill>
            <a:blip r:embed="rId3"/>
            <a:stretch/>
          </p:blipFill>
          <p:spPr>
            <a:xfrm>
              <a:off x="182520" y="173160"/>
              <a:ext cx="8778960" cy="6511680"/>
            </a:xfrm>
            <a:prstGeom prst="rect">
              <a:avLst/>
            </a:prstGeom>
            <a:ln w="0">
              <a:noFill/>
            </a:ln>
          </p:spPr>
        </p:pic>
        <p:grpSp>
          <p:nvGrpSpPr>
            <p:cNvPr id="89" name="Group 10"/>
            <p:cNvGrpSpPr/>
            <p:nvPr/>
          </p:nvGrpSpPr>
          <p:grpSpPr>
            <a:xfrm>
              <a:off x="372240" y="343800"/>
              <a:ext cx="8390520" cy="6152400"/>
              <a:chOff x="372240" y="343800"/>
              <a:chExt cx="8390520" cy="6152400"/>
            </a:xfrm>
          </p:grpSpPr>
          <p:sp>
            <p:nvSpPr>
              <p:cNvPr id="90"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1"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92"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9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95" name="PlaceHolder 3"/>
          <p:cNvSpPr>
            <a:spLocks noGrp="1"/>
          </p:cNvSpPr>
          <p:nvPr>
            <p:ph type="dt" idx="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7" name="PlaceHolder 5"/>
          <p:cNvSpPr>
            <a:spLocks noGrp="1"/>
          </p:cNvSpPr>
          <p:nvPr>
            <p:ph type="sldNum" idx="9"/>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BF21-8408-4771-93DA-674C17B62D5D}"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4" name="Group 6"/>
          <p:cNvGrpSpPr/>
          <p:nvPr/>
        </p:nvGrpSpPr>
        <p:grpSpPr>
          <a:xfrm>
            <a:off x="487440" y="411120"/>
            <a:ext cx="8169120" cy="6035760"/>
            <a:chOff x="487440" y="411120"/>
            <a:chExt cx="8169120" cy="6035760"/>
          </a:xfrm>
        </p:grpSpPr>
        <p:pic>
          <p:nvPicPr>
            <p:cNvPr id="135" name="Rectangle 7" descr=""/>
            <p:cNvPicPr/>
            <p:nvPr/>
          </p:nvPicPr>
          <p:blipFill>
            <a:blip r:embed="rId3"/>
            <a:stretch/>
          </p:blipFill>
          <p:spPr>
            <a:xfrm>
              <a:off x="487440" y="411120"/>
              <a:ext cx="8169120" cy="6035760"/>
            </a:xfrm>
            <a:prstGeom prst="rect">
              <a:avLst/>
            </a:prstGeom>
            <a:ln w="0">
              <a:noFill/>
            </a:ln>
          </p:spPr>
        </p:pic>
        <p:grpSp>
          <p:nvGrpSpPr>
            <p:cNvPr id="136" name="Group 11"/>
            <p:cNvGrpSpPr/>
            <p:nvPr/>
          </p:nvGrpSpPr>
          <p:grpSpPr>
            <a:xfrm>
              <a:off x="678600" y="576000"/>
              <a:ext cx="7751880" cy="5688360"/>
              <a:chOff x="678600" y="576000"/>
              <a:chExt cx="7751880" cy="5688360"/>
            </a:xfrm>
          </p:grpSpPr>
          <p:sp>
            <p:nvSpPr>
              <p:cNvPr id="137" name="Rectangle 9"/>
              <p:cNvSpPr/>
              <p:nvPr/>
            </p:nvSpPr>
            <p:spPr>
              <a:xfrm>
                <a:off x="678600" y="576000"/>
                <a:ext cx="7751880" cy="568836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8" name="Straight Connector 10"/>
              <p:cNvSpPr/>
              <p:nvPr/>
            </p:nvSpPr>
            <p:spPr>
              <a:xfrm>
                <a:off x="678600" y="6041880"/>
                <a:ext cx="7751880" cy="1080"/>
              </a:xfrm>
              <a:prstGeom prst="line">
                <a:avLst/>
              </a:prstGeom>
              <a:ln w="12600">
                <a:solidFill>
                  <a:srgbClr val="c7c6b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sto MT"/>
                </a:endParaRPr>
              </a:p>
            </p:txBody>
          </p:sp>
          <p:sp>
            <p:nvSpPr>
              <p:cNvPr id="139" name="Straight Connector 11"/>
              <p:cNvSpPr/>
              <p:nvPr/>
            </p:nvSpPr>
            <p:spPr>
              <a:xfrm>
                <a:off x="678600" y="3427560"/>
                <a:ext cx="7751880" cy="1080"/>
              </a:xfrm>
              <a:prstGeom prst="line">
                <a:avLst/>
              </a:prstGeom>
              <a:ln w="12600">
                <a:solidFill>
                  <a:srgbClr val="c7c6b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sto MT"/>
                </a:endParaRPr>
              </a:p>
            </p:txBody>
          </p:sp>
        </p:grpSp>
      </p:grpSp>
      <p:sp>
        <p:nvSpPr>
          <p:cNvPr id="1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4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42" name="PlaceHolder 3"/>
          <p:cNvSpPr>
            <a:spLocks noGrp="1"/>
          </p:cNvSpPr>
          <p:nvPr>
            <p:ph type="dt" idx="10"/>
          </p:nvPr>
        </p:nvSpPr>
        <p:spPr>
          <a:xfrm>
            <a:off x="56952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5638680" y="6124680"/>
            <a:ext cx="289584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0" name="Group 6"/>
          <p:cNvGrpSpPr/>
          <p:nvPr/>
        </p:nvGrpSpPr>
        <p:grpSpPr>
          <a:xfrm>
            <a:off x="182520" y="173160"/>
            <a:ext cx="8778960" cy="6511680"/>
            <a:chOff x="182520" y="173160"/>
            <a:chExt cx="8778960" cy="6511680"/>
          </a:xfrm>
        </p:grpSpPr>
        <p:pic>
          <p:nvPicPr>
            <p:cNvPr id="181" name="Rectangle 7" descr=""/>
            <p:cNvPicPr/>
            <p:nvPr/>
          </p:nvPicPr>
          <p:blipFill>
            <a:blip r:embed="rId3"/>
            <a:stretch/>
          </p:blipFill>
          <p:spPr>
            <a:xfrm>
              <a:off x="182520" y="173160"/>
              <a:ext cx="8778960" cy="6511680"/>
            </a:xfrm>
            <a:prstGeom prst="rect">
              <a:avLst/>
            </a:prstGeom>
            <a:ln w="0">
              <a:noFill/>
            </a:ln>
          </p:spPr>
        </p:pic>
        <p:grpSp>
          <p:nvGrpSpPr>
            <p:cNvPr id="182" name="Group 10"/>
            <p:cNvGrpSpPr/>
            <p:nvPr/>
          </p:nvGrpSpPr>
          <p:grpSpPr>
            <a:xfrm>
              <a:off x="372240" y="343800"/>
              <a:ext cx="8390520" cy="6152400"/>
              <a:chOff x="372240" y="343800"/>
              <a:chExt cx="8390520" cy="6152400"/>
            </a:xfrm>
          </p:grpSpPr>
          <p:sp>
            <p:nvSpPr>
              <p:cNvPr id="183"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4"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1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86"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87" name="PlaceHolder 3"/>
          <p:cNvSpPr>
            <a:spLocks noGrp="1"/>
          </p:cNvSpPr>
          <p:nvPr>
            <p:ph type="dt" idx="1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88" name="PlaceHolder 4"/>
          <p:cNvSpPr>
            <a:spLocks noGrp="1"/>
          </p:cNvSpPr>
          <p:nvPr>
            <p:ph type="ftr" idx="13"/>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9" name="PlaceHolder 5"/>
          <p:cNvSpPr>
            <a:spLocks noGrp="1"/>
          </p:cNvSpPr>
          <p:nvPr>
            <p:ph type="sldNum" idx="14"/>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BB5B-300F-49C4-8DFB-3DE204D05A61}"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6" name="Group 6"/>
          <p:cNvGrpSpPr/>
          <p:nvPr/>
        </p:nvGrpSpPr>
        <p:grpSpPr>
          <a:xfrm>
            <a:off x="182520" y="173160"/>
            <a:ext cx="8778960" cy="6511680"/>
            <a:chOff x="182520" y="173160"/>
            <a:chExt cx="8778960" cy="6511680"/>
          </a:xfrm>
        </p:grpSpPr>
        <p:pic>
          <p:nvPicPr>
            <p:cNvPr id="227" name="Rectangle 7" descr=""/>
            <p:cNvPicPr/>
            <p:nvPr/>
          </p:nvPicPr>
          <p:blipFill>
            <a:blip r:embed="rId3"/>
            <a:stretch/>
          </p:blipFill>
          <p:spPr>
            <a:xfrm>
              <a:off x="182520" y="173160"/>
              <a:ext cx="8778960" cy="6511680"/>
            </a:xfrm>
            <a:prstGeom prst="rect">
              <a:avLst/>
            </a:prstGeom>
            <a:ln w="0">
              <a:noFill/>
            </a:ln>
          </p:spPr>
        </p:pic>
        <p:grpSp>
          <p:nvGrpSpPr>
            <p:cNvPr id="228" name="Group 10"/>
            <p:cNvGrpSpPr/>
            <p:nvPr/>
          </p:nvGrpSpPr>
          <p:grpSpPr>
            <a:xfrm>
              <a:off x="372240" y="343800"/>
              <a:ext cx="8390520" cy="6152400"/>
              <a:chOff x="372240" y="343800"/>
              <a:chExt cx="8390520" cy="6152400"/>
            </a:xfrm>
          </p:grpSpPr>
          <p:sp>
            <p:nvSpPr>
              <p:cNvPr id="229"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30"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231"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2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3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34" name="PlaceHolder 3"/>
          <p:cNvSpPr>
            <a:spLocks noGrp="1"/>
          </p:cNvSpPr>
          <p:nvPr>
            <p:ph type="dt" idx="15"/>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35" name="PlaceHolder 4"/>
          <p:cNvSpPr>
            <a:spLocks noGrp="1"/>
          </p:cNvSpPr>
          <p:nvPr>
            <p:ph type="ftr" idx="16"/>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36" name="PlaceHolder 5"/>
          <p:cNvSpPr>
            <a:spLocks noGrp="1"/>
          </p:cNvSpPr>
          <p:nvPr>
            <p:ph type="sldNum" idx="17"/>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56DB-1CE4-413D-B882-B2B6ADEB5476}"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Group 6"/>
          <p:cNvGrpSpPr/>
          <p:nvPr/>
        </p:nvGrpSpPr>
        <p:grpSpPr>
          <a:xfrm>
            <a:off x="182520" y="173160"/>
            <a:ext cx="8778960" cy="6511680"/>
            <a:chOff x="182520" y="173160"/>
            <a:chExt cx="8778960" cy="6511680"/>
          </a:xfrm>
        </p:grpSpPr>
        <p:grpSp>
          <p:nvGrpSpPr>
            <p:cNvPr id="274" name="Group 7"/>
            <p:cNvGrpSpPr/>
            <p:nvPr/>
          </p:nvGrpSpPr>
          <p:grpSpPr>
            <a:xfrm>
              <a:off x="182520" y="173160"/>
              <a:ext cx="8778960" cy="6511680"/>
              <a:chOff x="182520" y="173160"/>
              <a:chExt cx="8778960" cy="6511680"/>
            </a:xfrm>
          </p:grpSpPr>
          <p:pic>
            <p:nvPicPr>
              <p:cNvPr id="275" name="Rectangle 9" descr=""/>
              <p:cNvPicPr/>
              <p:nvPr/>
            </p:nvPicPr>
            <p:blipFill>
              <a:blip r:embed="rId3"/>
              <a:stretch/>
            </p:blipFill>
            <p:spPr>
              <a:xfrm>
                <a:off x="182520" y="173160"/>
                <a:ext cx="8778960" cy="6511680"/>
              </a:xfrm>
              <a:prstGeom prst="rect">
                <a:avLst/>
              </a:prstGeom>
              <a:ln w="0">
                <a:noFill/>
              </a:ln>
            </p:spPr>
          </p:pic>
          <p:grpSp>
            <p:nvGrpSpPr>
              <p:cNvPr id="276" name="Group 10"/>
              <p:cNvGrpSpPr/>
              <p:nvPr/>
            </p:nvGrpSpPr>
            <p:grpSpPr>
              <a:xfrm>
                <a:off x="372240" y="343800"/>
                <a:ext cx="8390520" cy="6152400"/>
                <a:chOff x="372240" y="343800"/>
                <a:chExt cx="8390520" cy="6152400"/>
              </a:xfrm>
            </p:grpSpPr>
            <p:sp>
              <p:nvSpPr>
                <p:cNvPr id="277" name="Rectangle 11"/>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78" name="Straight Connector 12"/>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279" name="Rectangle 13"/>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280" name="Straight Connector 8"/>
            <p:cNvSpPr/>
            <p:nvPr/>
          </p:nvSpPr>
          <p:spPr>
            <a:xfrm>
              <a:off x="4572000" y="1671480"/>
              <a:ext cx="2160" cy="4712040"/>
            </a:xfrm>
            <a:prstGeom prst="line">
              <a:avLst/>
            </a:prstGeom>
            <a:ln w="12600">
              <a:solidFill>
                <a:srgbClr val="c7c6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grpSp>
      <p:sp>
        <p:nvSpPr>
          <p:cNvPr id="2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8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83" name="PlaceHolder 3"/>
          <p:cNvSpPr>
            <a:spLocks noGrp="1"/>
          </p:cNvSpPr>
          <p:nvPr>
            <p:ph type="dt" idx="18"/>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84" name="PlaceHolder 4"/>
          <p:cNvSpPr>
            <a:spLocks noGrp="1"/>
          </p:cNvSpPr>
          <p:nvPr>
            <p:ph type="ftr" idx="19"/>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85" name="PlaceHolder 5"/>
          <p:cNvSpPr>
            <a:spLocks noGrp="1"/>
          </p:cNvSpPr>
          <p:nvPr>
            <p:ph type="sldNum" idx="20"/>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8DFF-3DCE-4D7D-9871-AE3B51F7E219}"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2" name="Group 6"/>
          <p:cNvGrpSpPr/>
          <p:nvPr/>
        </p:nvGrpSpPr>
        <p:grpSpPr>
          <a:xfrm>
            <a:off x="182520" y="173160"/>
            <a:ext cx="8778960" cy="6511680"/>
            <a:chOff x="182520" y="173160"/>
            <a:chExt cx="8778960" cy="6511680"/>
          </a:xfrm>
        </p:grpSpPr>
        <p:pic>
          <p:nvPicPr>
            <p:cNvPr id="323" name="Rectangle 7" descr=""/>
            <p:cNvPicPr/>
            <p:nvPr/>
          </p:nvPicPr>
          <p:blipFill>
            <a:blip r:embed="rId3"/>
            <a:stretch/>
          </p:blipFill>
          <p:spPr>
            <a:xfrm>
              <a:off x="182520" y="173160"/>
              <a:ext cx="8778960" cy="6511680"/>
            </a:xfrm>
            <a:prstGeom prst="rect">
              <a:avLst/>
            </a:prstGeom>
            <a:ln w="0">
              <a:noFill/>
            </a:ln>
          </p:spPr>
        </p:pic>
        <p:grpSp>
          <p:nvGrpSpPr>
            <p:cNvPr id="324" name="Group 10"/>
            <p:cNvGrpSpPr/>
            <p:nvPr/>
          </p:nvGrpSpPr>
          <p:grpSpPr>
            <a:xfrm>
              <a:off x="372240" y="343800"/>
              <a:ext cx="8390520" cy="6152400"/>
              <a:chOff x="372240" y="343800"/>
              <a:chExt cx="8390520" cy="6152400"/>
            </a:xfrm>
          </p:grpSpPr>
          <p:sp>
            <p:nvSpPr>
              <p:cNvPr id="325"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26"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sp>
            <p:nvSpPr>
              <p:cNvPr id="327" name="Rectangle 11"/>
              <p:cNvSpPr/>
              <p:nvPr/>
            </p:nvSpPr>
            <p:spPr>
              <a:xfrm>
                <a:off x="372240" y="1663200"/>
                <a:ext cx="8390520" cy="61560"/>
              </a:xfrm>
              <a:prstGeom prst="rect">
                <a:avLst/>
              </a:prstGeom>
              <a:solidFill>
                <a:srgbClr val="cbd2d5"/>
              </a:solidFill>
              <a:ln w="3240">
                <a:solidFill>
                  <a:srgbClr val="c7c6bc"/>
                </a:solidFill>
                <a:miter/>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grpSp>
      </p:grpSp>
      <p:sp>
        <p:nvSpPr>
          <p:cNvPr id="3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29"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30" name="PlaceHolder 3"/>
          <p:cNvSpPr>
            <a:spLocks noGrp="1"/>
          </p:cNvSpPr>
          <p:nvPr>
            <p:ph type="dt" idx="2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31" name="PlaceHolder 4"/>
          <p:cNvSpPr>
            <a:spLocks noGrp="1"/>
          </p:cNvSpPr>
          <p:nvPr>
            <p:ph type="ftr" idx="22"/>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32" name="PlaceHolder 5"/>
          <p:cNvSpPr>
            <a:spLocks noGrp="1"/>
          </p:cNvSpPr>
          <p:nvPr>
            <p:ph type="sldNum" idx="23"/>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9002-12E8-4B06-B764-504872C155BD}"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9" name="Group 6"/>
          <p:cNvGrpSpPr/>
          <p:nvPr/>
        </p:nvGrpSpPr>
        <p:grpSpPr>
          <a:xfrm>
            <a:off x="182520" y="173160"/>
            <a:ext cx="8778960" cy="6511680"/>
            <a:chOff x="182520" y="173160"/>
            <a:chExt cx="8778960" cy="6511680"/>
          </a:xfrm>
        </p:grpSpPr>
        <p:pic>
          <p:nvPicPr>
            <p:cNvPr id="370" name="Rectangle 7" descr=""/>
            <p:cNvPicPr/>
            <p:nvPr/>
          </p:nvPicPr>
          <p:blipFill>
            <a:blip r:embed="rId3"/>
            <a:stretch/>
          </p:blipFill>
          <p:spPr>
            <a:xfrm>
              <a:off x="182520" y="173160"/>
              <a:ext cx="8778960" cy="6511680"/>
            </a:xfrm>
            <a:prstGeom prst="rect">
              <a:avLst/>
            </a:prstGeom>
            <a:ln w="0">
              <a:noFill/>
            </a:ln>
          </p:spPr>
        </p:pic>
        <p:grpSp>
          <p:nvGrpSpPr>
            <p:cNvPr id="371" name="Group 10"/>
            <p:cNvGrpSpPr/>
            <p:nvPr/>
          </p:nvGrpSpPr>
          <p:grpSpPr>
            <a:xfrm>
              <a:off x="372240" y="343800"/>
              <a:ext cx="8390520" cy="6152400"/>
              <a:chOff x="372240" y="343800"/>
              <a:chExt cx="8390520" cy="6152400"/>
            </a:xfrm>
          </p:grpSpPr>
          <p:sp>
            <p:nvSpPr>
              <p:cNvPr id="372" name="Rectangle 9"/>
              <p:cNvSpPr/>
              <p:nvPr/>
            </p:nvSpPr>
            <p:spPr>
              <a:xfrm>
                <a:off x="372240" y="343800"/>
                <a:ext cx="8390520" cy="6152400"/>
              </a:xfrm>
              <a:prstGeom prst="rect">
                <a:avLst/>
              </a:prstGeom>
              <a:noFill/>
              <a:ln w="12600">
                <a:solidFill>
                  <a:srgbClr val="c7c6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73" name="Straight Connector 10"/>
              <p:cNvSpPr/>
              <p:nvPr/>
            </p:nvSpPr>
            <p:spPr>
              <a:xfrm>
                <a:off x="372240" y="6281280"/>
                <a:ext cx="8390520" cy="1440"/>
              </a:xfrm>
              <a:prstGeom prst="line">
                <a:avLst/>
              </a:prstGeom>
              <a:ln w="12600">
                <a:solidFill>
                  <a:srgbClr val="c7c6b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sto MT"/>
                </a:endParaRPr>
              </a:p>
            </p:txBody>
          </p:sp>
        </p:grpSp>
      </p:grpSp>
      <p:sp>
        <p:nvSpPr>
          <p:cNvPr id="3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7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76" name="PlaceHolder 3"/>
          <p:cNvSpPr>
            <a:spLocks noGrp="1"/>
          </p:cNvSpPr>
          <p:nvPr>
            <p:ph type="dt" idx="24"/>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77" name="PlaceHolder 4"/>
          <p:cNvSpPr>
            <a:spLocks noGrp="1"/>
          </p:cNvSpPr>
          <p:nvPr>
            <p:ph type="ftr" idx="25"/>
          </p:nvPr>
        </p:nvSpPr>
        <p:spPr>
          <a:xfrm>
            <a:off x="5959080" y="6372360"/>
            <a:ext cx="2895480" cy="25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78" name="PlaceHolder 5"/>
          <p:cNvSpPr>
            <a:spLocks noGrp="1"/>
          </p:cNvSpPr>
          <p:nvPr>
            <p:ph type="sldNum" idx="26"/>
          </p:nvPr>
        </p:nvSpPr>
        <p:spPr>
          <a:xfrm>
            <a:off x="4191120" y="6356520"/>
            <a:ext cx="761760" cy="271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0542-C9DD-4804-95F1-BA1F3FC33B03}" type="slidenum">
              <a:rPr b="0" lang="en-US" sz="1200" spc="-1" strike="noStrike">
                <a:solidFill>
                  <a:srgbClr val="b0bcc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914040" y="1123560"/>
            <a:ext cx="7342200" cy="192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Calisto MT"/>
              </a:rPr>
              <a:t>American History</a:t>
            </a:r>
            <a:endParaRPr b="0" lang="en-US" sz="5400" spc="-1" strike="noStrike">
              <a:solidFill>
                <a:srgbClr val="404040"/>
              </a:solidFill>
              <a:latin typeface="Calisto MT"/>
            </a:endParaRPr>
          </a:p>
        </p:txBody>
      </p:sp>
      <p:sp>
        <p:nvSpPr>
          <p:cNvPr id="705" name="PlaceHolder 2"/>
          <p:cNvSpPr>
            <a:spLocks noGrp="1"/>
          </p:cNvSpPr>
          <p:nvPr>
            <p:ph type="subTitle"/>
          </p:nvPr>
        </p:nvSpPr>
        <p:spPr>
          <a:xfrm>
            <a:off x="914040" y="3429000"/>
            <a:ext cx="7342200" cy="17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opic: Equal Rights Amendment</a:t>
            </a:r>
            <a:endParaRPr b="0" lang="en-US" sz="2000" spc="-1" strike="noStrike">
              <a:solidFill>
                <a:srgbClr val="404040"/>
              </a:solidFill>
              <a:latin typeface="Calisto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sto MT"/>
              </a:rPr>
              <a:t>Learning Goal</a:t>
            </a:r>
            <a:r>
              <a:rPr b="0" lang="en-US" sz="2000" spc="-1" strike="noStrike">
                <a:solidFill>
                  <a:srgbClr val="404040"/>
                </a:solidFill>
                <a:latin typeface="Calisto MT"/>
              </a:rPr>
              <a:t>: Students will be able to list 2 pros and 2 cons of a potential Equal Rights Amendment</a:t>
            </a: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Equal Rights Amendment</a:t>
            </a:r>
            <a:endParaRPr b="0" lang="en-US" sz="4800" spc="-1" strike="noStrike">
              <a:solidFill>
                <a:srgbClr val="404040"/>
              </a:solidFill>
              <a:latin typeface="Calisto MT"/>
            </a:endParaRPr>
          </a:p>
        </p:txBody>
      </p:sp>
      <p:sp>
        <p:nvSpPr>
          <p:cNvPr id="707" name=""/>
          <p:cNvSpPr txBox="1"/>
          <p:nvPr/>
        </p:nvSpPr>
        <p:spPr>
          <a:xfrm>
            <a:off x="900000" y="2133360"/>
            <a:ext cx="357048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Nickname = ERA</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rst proposed in 1923 (written by Alice Paul) to affirm that women and men have equal rights under the law</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not part of the U.S. Constitution. </a:t>
            </a:r>
            <a:endParaRPr b="0" lang="en-US" sz="2400" spc="-1" strike="noStrike">
              <a:solidFill>
                <a:srgbClr val="404040"/>
              </a:solidFill>
              <a:latin typeface="Calisto MT"/>
            </a:endParaRPr>
          </a:p>
        </p:txBody>
      </p:sp>
      <p:pic>
        <p:nvPicPr>
          <p:cNvPr id="708" name="Picture 3" descr=""/>
          <p:cNvPicPr/>
          <p:nvPr/>
        </p:nvPicPr>
        <p:blipFill>
          <a:blip r:embed="rId1"/>
          <a:stretch/>
        </p:blipFill>
        <p:spPr>
          <a:xfrm>
            <a:off x="4384800" y="2295360"/>
            <a:ext cx="4522680" cy="432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ERA as Law?</a:t>
            </a:r>
            <a:endParaRPr b="0" lang="en-US" sz="4800" spc="-1" strike="noStrike">
              <a:solidFill>
                <a:srgbClr val="404040"/>
              </a:solidFill>
              <a:latin typeface="Calisto MT"/>
            </a:endParaRPr>
          </a:p>
        </p:txBody>
      </p:sp>
      <p:sp>
        <p:nvSpPr>
          <p:cNvPr id="710" name=""/>
          <p:cNvSpPr txBox="1"/>
          <p:nvPr/>
        </p:nvSpPr>
        <p:spPr>
          <a:xfrm>
            <a:off x="899640" y="2133360"/>
            <a:ext cx="364356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e ERA was passed out of Congress in 1972 and has been ratified by 35 of the necessary 38 states. </a:t>
            </a:r>
            <a:endParaRPr b="0" lang="en-US" sz="24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 </a:t>
            </a:r>
            <a:r>
              <a:rPr b="0" lang="en-US" sz="2400" spc="-1" strike="noStrike">
                <a:solidFill>
                  <a:srgbClr val="404040"/>
                </a:solidFill>
                <a:latin typeface="Calisto MT"/>
              </a:rPr>
              <a:t>When three more states vote yes, it is possible that the ERA could become the 28th Amendment.</a:t>
            </a:r>
            <a:endParaRPr b="0" lang="en-US" sz="2400" spc="-1" strike="noStrike">
              <a:solidFill>
                <a:srgbClr val="404040"/>
              </a:solidFill>
              <a:latin typeface="Calisto MT"/>
            </a:endParaRPr>
          </a:p>
        </p:txBody>
      </p:sp>
      <p:pic>
        <p:nvPicPr>
          <p:cNvPr id="711" name="Picture 3" descr=""/>
          <p:cNvPicPr/>
          <p:nvPr/>
        </p:nvPicPr>
        <p:blipFill>
          <a:blip r:embed="rId1"/>
          <a:stretch/>
        </p:blipFill>
        <p:spPr>
          <a:xfrm>
            <a:off x="5421240" y="1722600"/>
            <a:ext cx="3492720" cy="49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Brainstorm</a:t>
            </a:r>
            <a:endParaRPr b="0" lang="en-US" sz="4800" spc="-1" strike="noStrike">
              <a:solidFill>
                <a:srgbClr val="404040"/>
              </a:solidFill>
              <a:latin typeface="Calisto MT"/>
            </a:endParaRPr>
          </a:p>
        </p:txBody>
      </p:sp>
      <p:sp>
        <p:nvSpPr>
          <p:cNvPr id="713"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With a neighbor, make a T Chart and list pros and cons of an equal rights amendment</a:t>
            </a:r>
            <a:endParaRPr b="0" lang="en-US" sz="24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Equality</a:t>
            </a:r>
            <a:endParaRPr b="0" lang="en-US" sz="4800" spc="-1" strike="noStrike">
              <a:solidFill>
                <a:srgbClr val="404040"/>
              </a:solidFill>
              <a:latin typeface="Calisto MT"/>
            </a:endParaRPr>
          </a:p>
        </p:txBody>
      </p:sp>
      <p:sp>
        <p:nvSpPr>
          <p:cNvPr id="715" name=""/>
          <p:cNvSpPr txBox="1"/>
          <p:nvPr/>
        </p:nvSpPr>
        <p:spPr>
          <a:xfrm>
            <a:off x="900000" y="1746000"/>
            <a:ext cx="4021200" cy="4762440"/>
          </a:xfrm>
          <a:prstGeom prst="rect">
            <a:avLst/>
          </a:prstGeom>
          <a:noFill/>
          <a:ln w="0">
            <a:noFill/>
          </a:ln>
        </p:spPr>
        <p:txBody>
          <a:bodyPr anchor="t">
            <a:normAutofit fontScale="97000"/>
          </a:bodyPr>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men have historically been guaranteed fewer rights than men</a:t>
            </a:r>
            <a:endParaRPr b="0" lang="en-US" sz="22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uld provide a fundamental legal remedy against sex discrimination for both women and men. </a:t>
            </a:r>
            <a:endParaRPr b="0" lang="en-US" sz="22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quality can be achieved by raising women’s legal rights to the same level of constitutional protection as men’s if this passes…right?</a:t>
            </a:r>
            <a:endParaRPr b="0" lang="en-US" sz="2200" spc="-1" strike="noStrike">
              <a:solidFill>
                <a:srgbClr val="404040"/>
              </a:solidFill>
              <a:latin typeface="Calisto MT"/>
            </a:endParaRPr>
          </a:p>
        </p:txBody>
      </p:sp>
      <p:pic>
        <p:nvPicPr>
          <p:cNvPr id="716" name="Picture 3" descr=""/>
          <p:cNvPicPr/>
          <p:nvPr/>
        </p:nvPicPr>
        <p:blipFill>
          <a:blip r:embed="rId1"/>
          <a:stretch/>
        </p:blipFill>
        <p:spPr>
          <a:xfrm>
            <a:off x="5059440" y="1584360"/>
            <a:ext cx="3898800" cy="504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Female Cases/Laws</a:t>
            </a:r>
            <a:endParaRPr b="0" lang="en-US" sz="4800" spc="-1" strike="noStrike">
              <a:solidFill>
                <a:srgbClr val="404040"/>
              </a:solidFill>
              <a:latin typeface="Calisto MT"/>
            </a:endParaRPr>
          </a:p>
        </p:txBody>
      </p:sp>
      <p:sp>
        <p:nvSpPr>
          <p:cNvPr id="718" name=""/>
          <p:cNvSpPr txBox="1"/>
          <p:nvPr/>
        </p:nvSpPr>
        <p:spPr>
          <a:xfrm>
            <a:off x="900000" y="2133360"/>
            <a:ext cx="7345440" cy="3932280"/>
          </a:xfrm>
          <a:prstGeom prst="rect">
            <a:avLst/>
          </a:prstGeom>
          <a:noFill/>
          <a:ln w="0">
            <a:noFill/>
          </a:ln>
        </p:spPr>
        <p:txBody>
          <a:bodyPr anchor="t">
            <a:normAutofit fontScale="96000"/>
          </a:bodyPr>
          <a:p>
            <a:pPr marL="329040" indent="-3290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Roe v. Wade</a:t>
            </a:r>
            <a:endParaRPr b="0" lang="en-US" sz="2400" spc="-1" strike="noStrike">
              <a:solidFill>
                <a:srgbClr val="404040"/>
              </a:solidFill>
              <a:latin typeface="Calisto MT"/>
            </a:endParaRPr>
          </a:p>
          <a:p>
            <a:pPr marL="329040" indent="-3290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Griswold v. Connecticut </a:t>
            </a:r>
            <a:endParaRPr b="0" lang="en-US" sz="2400" spc="-1" strike="noStrike">
              <a:solidFill>
                <a:srgbClr val="404040"/>
              </a:solidFill>
              <a:latin typeface="Calisto MT"/>
            </a:endParaRPr>
          </a:p>
          <a:p>
            <a:pPr marL="329040" indent="-3290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itle 9 – known as Equal Opportunity in Education Act </a:t>
            </a:r>
            <a:r>
              <a:rPr b="0" lang="en-US" sz="2400" spc="-1" strike="noStrike">
                <a:solidFill>
                  <a:srgbClr val="404040"/>
                </a:solidFill>
                <a:latin typeface="Wingdings"/>
                <a:ea typeface="Wingdings"/>
              </a:rPr>
              <a:t></a:t>
            </a:r>
            <a:r>
              <a:rPr b="0" lang="en-US" sz="2400" spc="-1" strike="noStrike">
                <a:solidFill>
                  <a:srgbClr val="404040"/>
                </a:solidFill>
                <a:latin typeface="Calisto MT"/>
              </a:rPr>
              <a:t> best known for high school/college sports</a:t>
            </a:r>
            <a:endParaRPr b="0" lang="en-US" sz="2400" spc="-1" strike="noStrike">
              <a:solidFill>
                <a:srgbClr val="404040"/>
              </a:solidFill>
              <a:latin typeface="Calisto MT"/>
            </a:endParaRPr>
          </a:p>
          <a:p>
            <a:pPr lvl="1" marL="556200" indent="-21924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 person in the United States shall, on the basis of sex, be excluded from participation in, be denied the benefits of, or be subjected to discrimination under any education program or activity receiving Federal financial assistance...</a:t>
            </a:r>
            <a:endParaRPr b="0" lang="en-US" sz="22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00000" y="-26280"/>
            <a:ext cx="734544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04040"/>
              </a:solidFill>
              <a:latin typeface="Calisto MT"/>
            </a:endParaRPr>
          </a:p>
        </p:txBody>
      </p:sp>
      <p:sp>
        <p:nvSpPr>
          <p:cNvPr id="720" name=""/>
          <p:cNvSpPr txBox="1"/>
          <p:nvPr/>
        </p:nvSpPr>
        <p:spPr>
          <a:xfrm>
            <a:off x="900000" y="452520"/>
            <a:ext cx="7345440" cy="3930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Pick 1 of the following 2 questions to answer:</a:t>
            </a:r>
            <a:endParaRPr b="0" lang="en-US" sz="2400" spc="-1" strike="noStrike">
              <a:solidFill>
                <a:srgbClr val="404040"/>
              </a:solidFill>
              <a:latin typeface="Calisto MT"/>
            </a:endParaRPr>
          </a:p>
          <a:p>
            <a:pPr lvl="1" marL="35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Explain why some females would not want an ERA passed</a:t>
            </a:r>
            <a:endParaRPr b="0" lang="en-US" sz="2200" spc="-1" strike="noStrike">
              <a:solidFill>
                <a:srgbClr val="404040"/>
              </a:solidFill>
              <a:latin typeface="Calisto MT"/>
            </a:endParaRPr>
          </a:p>
          <a:p>
            <a:pPr lvl="1" marL="35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 Would you vote yes for the ERA? Why?</a:t>
            </a:r>
            <a:endParaRPr b="0" lang="en-US" sz="2200" spc="-1" strike="noStrike">
              <a:solidFill>
                <a:srgbClr val="404040"/>
              </a:solidFill>
              <a:latin typeface="Calisto MT"/>
            </a:endParaRPr>
          </a:p>
        </p:txBody>
      </p:sp>
      <p:pic>
        <p:nvPicPr>
          <p:cNvPr id="721" name="Picture 3" descr=""/>
          <p:cNvPicPr/>
          <p:nvPr/>
        </p:nvPicPr>
        <p:blipFill>
          <a:blip r:embed="rId1"/>
          <a:stretch/>
        </p:blipFill>
        <p:spPr>
          <a:xfrm>
            <a:off x="1422360" y="2019240"/>
            <a:ext cx="628668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03:29:53Z</dcterms:created>
  <dc:creator>Mark Scacewater</dc:creator>
  <dc:description/>
  <dc:language>en-US</dc:language>
  <cp:lastModifiedBy>Mark Scacewater</cp:lastModifiedBy>
  <dcterms:modified xsi:type="dcterms:W3CDTF">2012-08-02T19:07:23Z</dcterms:modified>
  <cp:revision>5</cp:revision>
  <dc:subject/>
  <dc:title>American History</dc:title>
</cp:coreProperties>
</file>